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288588" cy="6858000"/>
  <p:notesSz cx="68834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D71-595F-49F2-A5F1-B6DE6D23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C5B-3E9C-4DF2-B34B-814461DC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79F-05A7-480D-9CB7-438C43E5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3EB-1434-46F4-A61F-60C3B505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A7EA-1E1D-42DE-808F-6AAB5BC8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575E-FC01-4B5B-86A7-C6D17BF6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F63F-06C3-4F05-AE93-6A254AF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9D4E-3990-4B82-B4D4-E592ED9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6CA-8333-4CD5-862B-D6E25FD2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12F7-927B-4819-96F1-34F976B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046E-34F6-4C3D-BE86-9838BF5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793-3684-4800-B3F8-1EAABB8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D528-439D-4E1C-8358-AF6DC98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1FA6-CFED-4E07-A667-3378D0D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DC3E-FAFF-4088-B412-E294D405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5EB-45B4-4279-83CC-F7F27981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C7C-5109-4A0C-87DF-234B429A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46B-E577-4276-B1C9-6D41F35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35F-58B1-4D5B-A448-1503AA8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3C7-22D9-4164-AE8D-372ED502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E37-6281-4C5E-87E7-0683D13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A7E-5322-46AC-9277-91F4DD0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B85-B137-4F15-B22F-4A02BC7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5EF-4D80-4F21-B874-8CF04A1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D568-F63D-4E12-BE0E-58B261D650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D646-6AB3-4311-9FDE-512796DA7D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candelal@unmsm.edu.p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0040" y="1268280"/>
            <a:ext cx="87436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s-PE" sz="2800" spc="-1" strike="noStrike">
                <a:solidFill>
                  <a:srgbClr val="0000ff"/>
                </a:solidFill>
                <a:latin typeface="Arial"/>
              </a:rPr>
              <a:t>UNIVERSIDAD RICARDO PALMA</a:t>
            </a:r>
            <a:br>
              <a:rPr sz="1600"/>
            </a:b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         ESCUELA DE EDUCACIÓN</a:t>
            </a:r>
            <a:r>
              <a:rPr b="0" lang="es-PE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2071800"/>
            <a:ext cx="78580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ROGRAMA DE COMPLEMENTACIÓN PEDAG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IDÁCTICA DE LA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243400" y="4653000"/>
            <a:ext cx="4176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ff"/>
                </a:solidFill>
                <a:latin typeface="Arial"/>
              </a:rPr>
              <a:t>Prof. Hugo Candela Li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Maestría en Docencia Universita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Primer Puest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273320" y="5373720"/>
            <a:ext cx="41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ff"/>
                </a:solidFill>
                <a:latin typeface="Arial"/>
              </a:rPr>
              <a:t>E-mail: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candelal@unmsm.edu.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333399"/>
                </a:solidFill>
                <a:latin typeface="Arial"/>
              </a:rPr>
              <a:t>comeniohcl@hotmail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ttp://t1.gstatic.com/images?q=tbn:cy6xdL-A1rGqaM%3Ahttp://www.creditosperu.com.pe/admin/logos/redimensionar.php%3Fimagen%3Durp.jpg"/>
          <p:cNvPicPr/>
          <p:nvPr/>
        </p:nvPicPr>
        <p:blipFill>
          <a:blip r:embed="rId2"/>
          <a:stretch/>
        </p:blipFill>
        <p:spPr>
          <a:xfrm>
            <a:off x="4714920" y="285840"/>
            <a:ext cx="961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CINCO METAS O FINALIDAD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858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aprendizaje de conceptos y la construcción de model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desarrollo de destrezas cognitivas y de razonamiento científi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desarrollo de destrezas experimentales y de resolución de proble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desarrollo de actitudes y valo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La construcción de una imagen de la cienc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6680" y="692280"/>
            <a:ext cx="939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ffff"/>
                </a:solidFill>
                <a:latin typeface="Arial"/>
              </a:rPr>
              <a:t>EDUCACIÓN CIENTÍFIC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48040" y="4089240"/>
            <a:ext cx="599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es-PE" sz="1900" spc="-1" strike="noStrike">
                <a:solidFill>
                  <a:srgbClr val="ffffff"/>
                </a:solidFill>
                <a:latin typeface="Arial"/>
              </a:rPr>
              <a:t>Prof. HUGO CANDELA   LINA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51040" y="5246640"/>
            <a:ext cx="6076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E-mail:   hcandelal@unmsm.edu.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comeniohcl@hotmail.c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dn-1"/>
          <p:cNvPicPr/>
          <p:nvPr/>
        </p:nvPicPr>
        <p:blipFill>
          <a:blip r:embed="rId1"/>
          <a:stretch/>
        </p:blipFill>
        <p:spPr>
          <a:xfrm>
            <a:off x="1093680" y="134136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EDUCACIÓN CIENTÍF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1040" y="1866600"/>
            <a:ext cx="858672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500" spc="-1" strike="noStrike">
                <a:solidFill>
                  <a:srgbClr val="ffffff"/>
                </a:solidFill>
                <a:latin typeface="Arial"/>
              </a:rPr>
              <a:t>La esencia de la verdadera educación es la intemporalidad. Es algo que permanece a través de las condiciones cambiantes como una roca firmemente plantada en medio de un tumultuoso torrent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CRISIS DE LA EDUCACIÓN CIENTÍF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Hay una creciente sensación de frustración, al comprobar el limitado éxito en el esfuerzo do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parentemente, los alumnos cada vez aprenden menos y se interesan menos por lo que apren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os alumnos encuentran dificultades conceptuales, también las tienen en el uso de estrategias de razonamiento y  de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No entienden lo que hacen; consiguientemente no logran explicar ni aplicar a nuevas situaciones, el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o aprendido se diluye rá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prácticas escolares se centran en tareas rutinarias o cerradas, con escaso significado científ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Arial Black"/>
              </a:rPr>
              <a:t>ACTITUDES INADECUADAS CON RESPECTO AL TRABAJO CIENT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9040" y="1599840"/>
            <a:ext cx="9083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doptan posiciones pas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speran respuestas en lugar de formular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Mucho menos hacerse ellos mismos la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Conciben los experimentos como “demostraciones” y no como investig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sumen que el trabajo intelectual es una actividad individual y no de cooperación y búsqueda conj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Consideran la ciencia como un conocimiento neutro, desligado de sus repercusione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sumen la superioridad del conocimiento científico con respecto a otras formas de saber culturalmente más “primitiv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CONSTRUCCIÓN DEL CONOCI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32040" y="1703520"/>
            <a:ext cx="85629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ELABORACIÓN DEL CONOCIMIENT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L APRENDIZAJE COMO PROCESO CONSTR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S NUEVAS DEMANDAS EDUCATIVAS EN LA SOCIEDAD DE LA INFORMACIÓN Y EL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CONSTRUCCIÓN DEL CONOCI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5800" y="15588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.-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ELABORACIÓN DEL CONOCIMIENT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ciencia es un proceso, que los alumnos perciban su provisionalidad y su naturaleza histórica y cul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nseñar ciencias no debe tener como meta presentar a los alumnos los productos de la ciencia como saberes acabados, defini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988640"/>
            <a:ext cx="8772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76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B.-</a:t>
            </a:r>
            <a:r>
              <a:rPr b="1" lang="es-PE" sz="21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EL APRENDIZAJE COMO PROCESO CONSTRUC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6480" indent="-276480" algn="just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Aprender no es hacer fotocopias mentales del mundo. Ni enseñar es enviar un fax a la mente del alumno, para que éste emita una copia, el día del examen, para que el profesor la compare con la orig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6480" indent="-27648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Existen diversas formas de interpretar los proce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61480" y="549000"/>
            <a:ext cx="858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C.-</a:t>
            </a:r>
            <a:r>
              <a:rPr b="1" lang="es-P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LAS NUEVAS DEMANDAS EDUCATIVAS EN LA   SOCIEDAD DE LA INFORMACIÓN Y 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Un sistema educativo, tiene como función formativa hacer que los futuros ciudadanos , asimilen la cultura en la que viven, también desarrollar capacidades necesarias para acceder a los productos cul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Se puede resumir la nueva cultura del aprendizaje caracterizándola en 3 rasgos esenci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- Estamos ante la sociedad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- Del conocimiento múlti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- Del aprendizaje contí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El currículo de ciencias es una de las vías a través de las cuales los alumnos deben aprender a aprender adquirir estrategias y capacidades que le permitan transformar, reelaborar y en suma, reconstruir los conocimientos que reci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6:40:44Z</dcterms:created>
  <dc:creator>Zraida</dc:creator>
  <dc:description/>
  <dc:language>en-US</dc:language>
  <cp:lastModifiedBy>CASA</cp:lastModifiedBy>
  <dcterms:modified xsi:type="dcterms:W3CDTF">2010-01-14T21:30:31Z</dcterms:modified>
  <cp:revision>21</cp:revision>
  <dc:subject/>
  <dc:title>Diapositiva 1</dc:title>
</cp:coreProperties>
</file>